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56A8-AE45-4045-9201-0228F90C28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5CDB-9869-4348-8DB3-C43B8058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94B5-1255-4DCB-A62F-7CB74166F4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748C-CE57-4986-82EE-3E5A9B7BE7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B4FB-7E22-4971-A52E-9787D62052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D722-5E6F-4B19-8C3E-B0C23230CC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62F-A6AE-46A4-A227-CC1B5839B2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EA06-B2B3-4EC3-8FF8-533ACBD989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171C-E505-4AA7-B3A2-E9C384E947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3D5-513C-40E8-A4FF-0D053580B0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0757-A34F-4811-B8D6-8A64EA9187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4CEB-6660-48DA-9C57-8664B6786D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168B-EFDC-4FDA-9A23-9527F28591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9FD6-33D1-4B6B-8BD2-870783A640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328E-8023-4519-9153-1BD07C2D7A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04E4-76B3-4E41-827A-65FA3E921B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7D2B-9EE8-4F6D-94AB-139C16660A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5CE-E891-4852-A2FC-72662F1961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0666-EEF2-4C2A-A3FF-0BFC992F66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0AEC-92BF-4BB6-B46F-8AFA91182A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32F-4E9C-49C6-AF89-3B49B590F2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737f39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e3c16b"/>
                  </a:gs>
                  <a:gs pos="100000">
                    <a:srgbClr val="48301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25a28"/>
                </a:gs>
                <a:gs pos="100000">
                  <a:srgbClr val="4830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e3c16b"/>
                    </a:gs>
                    <a:gs pos="100000">
                      <a:srgbClr val="483018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Unité 3 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3 – Home Sweet Home 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3549600" y="3809880"/>
            <a:ext cx="34164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1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8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3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6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9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8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1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4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2-05T17:26:00Z</dcterms:modified>
  <cp:revision>95</cp:revision>
  <dc:subject/>
  <dc:title>Allez, viens! – Level 2</dc:title>
</cp:coreProperties>
</file>